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98E7-1FB8-474F-920B-72323D9F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3BD-E97D-44EB-991D-C3E9DCC5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7F93-487B-4B6C-A21A-B22798A2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3C20-2B8F-4B7E-B109-33C8E0DB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9DDA-635B-4DBB-B9A6-3AA15F32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D9A-96C2-407D-968D-618F8547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FE8E-32F4-40F2-AFFB-0CADA193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FF7-59AC-4413-9EF6-F905268A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CDF-D67F-4BCD-82D5-184316CA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1E5-89FF-43C9-878A-ABA59CB7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8025-A099-4B52-B97B-1F40CE7C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6368-88DA-49AF-A9B7-D44DE745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C74A-9028-4D91-8A1C-4CB632A68C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10C Simultaneous equations and break-even poin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mbria Math"/>
              </a:rPr>
              <a:t>Solving linear simultaneous equations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ach pair of points x and y which satisfy an equation of a straight line will be coordinates of a point on that line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point where two lines intersect satisfies both equation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can solve simultaneous equations graphically or algebraically using the substitution method or the elimination method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0C, 1a, 1c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Break-even analysi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n a business, Profit = revenue – costs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Revenue is the money a company earns through sale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Costs include labour, raw materials, equipment that go into making the product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f costs exceed revenue, the business makes a los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f costs equal revenue, there will be neither profit or loss. This is the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break-even point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0C, Q.4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0C, 5, 6, 8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01:24:43Z</dcterms:created>
  <dc:creator>08843474</dc:creator>
  <dc:description/>
  <dc:language>en-US</dc:language>
  <cp:lastModifiedBy>08843474</cp:lastModifiedBy>
  <dcterms:modified xsi:type="dcterms:W3CDTF">2011-06-02T02:11:21Z</dcterms:modified>
  <cp:revision>2</cp:revision>
  <dc:subject/>
  <dc:title>10C Simultaneous equations and break-even point</dc:title>
</cp:coreProperties>
</file>